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DAC-683A-4490-8A07-28D85AB7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8C2-69D4-4320-8A9C-8CA4147E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248-A480-4072-9F8E-ADB75A9C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502D-08F2-477A-B5E3-632254ED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DC8-BCDC-4B6C-8FA6-5CA917C5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25F-4C85-4E3E-91C8-57A2027D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14F2-16C4-480F-BE26-2AA7C034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17A-59B0-47D2-8CC8-B1E27D79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60FA-D0C3-4896-9DAA-96528ED6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F8E-9BA1-4941-AC5F-65277C2A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DA4-A9EF-4ED6-A23E-5D08233F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600-2765-4272-B436-FE9996D3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AED2-1993-41F3-B19C-BA7781A99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1200" y="2276640"/>
            <a:ext cx="579096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แผนพัฒนาสามปี </a:t>
            </a:r>
            <a:br>
              <a:rPr sz="4000"/>
            </a:br>
            <a:r>
              <a:rPr b="1" lang="th-TH" sz="4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พ</a:t>
            </a:r>
            <a:r>
              <a:rPr b="1" lang="th-TH" sz="4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ศ</a:t>
            </a:r>
            <a:r>
              <a:rPr b="1" lang="th-TH" sz="4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1" lang="en-US" sz="4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560-</a:t>
            </a:r>
            <a:r>
              <a:rPr b="1" lang="th-TH" sz="4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56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71760" y="8305560"/>
            <a:ext cx="5094000" cy="107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องค์การบริหารส่วนตำบลบางขุนไท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อำเภอบ้านแหลม จังหวัดเพชรบุร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พฤษภาคม </a:t>
            </a:r>
            <a:r>
              <a:rPr b="1" lang="en-US" sz="2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5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642960" y="5024520"/>
            <a:ext cx="571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โลโก้ อบต"/>
          <p:cNvPicPr/>
          <p:nvPr/>
        </p:nvPicPr>
        <p:blipFill>
          <a:blip r:embed="rId1"/>
          <a:stretch/>
        </p:blipFill>
        <p:spPr>
          <a:xfrm>
            <a:off x="2786040" y="595440"/>
            <a:ext cx="1638360" cy="1587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9" descr="http://attapontanhosak.elite-ssc.com/public/uploads/files/1429337828_Team_4_1_zpsbc1cbc8a.jpg"/>
          <p:cNvPicPr/>
          <p:nvPr/>
        </p:nvPicPr>
        <p:blipFill>
          <a:blip r:embed="rId2"/>
          <a:stretch/>
        </p:blipFill>
        <p:spPr>
          <a:xfrm>
            <a:off x="1143000" y="4024440"/>
            <a:ext cx="52023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08:25:55Z</dcterms:created>
  <dc:creator>master</dc:creator>
  <dc:description/>
  <dc:language>en-US</dc:language>
  <cp:lastModifiedBy>admin</cp:lastModifiedBy>
  <cp:lastPrinted>2005-07-06T07:24:47Z</cp:lastPrinted>
  <dcterms:modified xsi:type="dcterms:W3CDTF">2017-06-03T04:49:18Z</dcterms:modified>
  <cp:revision>87</cp:revision>
  <dc:subject/>
  <dc:title>แผนพัฒนาสามปี  (พ.ศ. 2549-2551)</dc:title>
</cp:coreProperties>
</file>